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AA08-5675-4C61-9EBD-C33E82BA5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8"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9"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FC50B-23C6-4B59-9E97-8A5917409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1"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119D38-0338-4FC6-9430-68CA371E4A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4A7AC-58C5-46CA-8EA2-667BF0B66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A1281C-3041-4AC1-BB6D-7CAB762C83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6"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7"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2F793-D194-4DDC-B7C4-1F4535926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9"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1"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1B9F8-C4C1-42C5-A816-955344043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5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5"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825D7-89AC-4C0C-8092-289BFC0BD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57"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8"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6278D6-E3D3-4D57-A090-E7E73E379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0"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2"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3"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B2822F-F396-45B9-972E-809F67A5AB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5"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6"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7"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8"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9"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70"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52B994-4DA7-495C-9DCD-EE8C928FAB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8AD362-1638-451A-B243-6B73F846F1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1F779-BB73-46D3-984C-8651A3F66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77"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28A7CC-8FBA-4FAB-8449-EBEDB562A9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79"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8A2613-9C56-46BE-A68F-6C628F59B1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8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B13021-EE0D-4D9C-8787-3A0A116598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E6F124-4772-4CA8-A69F-B82204DC00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057C72-717E-432E-9A6D-FE91E5CC4C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8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6E9542-D861-4723-84ED-8EE58056F0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2"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79209B-61D8-4909-88B6-B9FC1CE025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6"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071078-18A8-4061-AA7F-562BE0A9D6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8"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9"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70A380-DDFC-42CC-BFFF-C26209F6B0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0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4"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FEAB85-2CAC-4878-A4B4-75A0661280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7"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82469-C3D6-4B78-9CA2-A5CA0BCE9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06"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7"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8"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9"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0"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1"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6DB018-37F6-462C-B2B5-13305818C4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D45030-DE2F-4861-96CC-CC16A692E4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18"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8FC81F-B953-46BB-9DBA-8573DE930C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0"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F1AE07-A607-4AE0-95A1-7C5E1DB76E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1841F4-6BCD-409F-AF86-F599CD3075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A4EFDE-4C65-4650-8ADE-75F3CE0E9E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791AD8-3CC7-4255-897F-2E5C3C24E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837AB-4119-4104-8393-72AF3C4EEF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3"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6A51D0-88D9-44B1-9D95-AE5355F8A9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7"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A7A04D-C8D2-4C81-87C0-1781B78241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B6378-2AED-4E7F-B19D-160E6D65A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9"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0"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590852-6249-4642-833C-86256ADDBA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4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5"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11D096-AE0C-406A-8BAF-9895CB528B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47"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8"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9"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0"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1"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2"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32E091-8455-401A-B153-F2285901B8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EE16CC-925B-4509-89E9-2AB509BBF6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59"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FA3E6A-5D39-44BF-B540-BDA381F5BF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1"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84FCF8-FA09-4287-BF36-9060D5DA93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6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870639-185A-4D3C-AD60-8A9D2F5358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A28322-2E10-4A44-B613-D7CD4ACAE1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A2CA8F-FCD4-438F-87E0-FDB8282625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6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B58FCE-FC14-49B0-8C36-BFE9127C41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47D41-BBA9-4849-8FC3-FDC3D8A38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7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4"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81AA37-7FEF-4FE4-9457-F3B934640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7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8"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B3968C-9B6D-45F5-90DB-59DBA8D938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0"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1"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864846-231F-4178-A217-EC62B1FF19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6"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8174C1-0079-4AE0-8378-EF3CF1B540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8"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9"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0"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1"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2"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3"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7343FD-93CD-4184-A769-75609C84F8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0"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A6831-672A-491A-8817-5E2AE550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EBD68-1D99-4C97-8E77-85CB652A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EE5F5-24A3-4881-B615-2EE0EC5B5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27999-EC85-4E56-951D-355EF4310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21B4B-7EC9-49D4-A86A-9C1330E9B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311D-2D68-4931-96C0-EAE565E4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3"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931B-FD4B-4343-BC01-55BC8E8C0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7"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DD009-F18C-4ECF-A561-4B6B651EA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9"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0"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D352F-0785-4ECE-9F19-4C16FE20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5"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E07D8-EA50-481F-9377-8994019FF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7"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8"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9"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0"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1"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2"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A6F24-584F-4CA1-A5BC-81C35C5B3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09601-CBAD-48AF-A51A-BC2539E6D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89"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C2670-CE27-466B-83B1-10D304D4F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1"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8C4F2-D26B-464E-8806-62F36E4BD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6F86B-AD3F-4628-B0D9-6CCF6B326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541CF-A7D0-4EE2-A58E-0146B2F3B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DCD9-0A3F-4A49-9D8D-282801233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133B1-6491-45C7-AE62-294CF55A7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E5852-8F71-4625-86AF-0245B5B53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0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4"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A2AB6-C0B7-4F79-A8BC-8BE13328B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0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8"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95E8E-4606-46CC-830B-5D5053054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0"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1"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09E81-0C53-48B4-B924-8FF624EED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6"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05430-A373-46AC-BA1C-2A70A0D80D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8"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9"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0"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1"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2"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3"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DB959-1C64-4027-9FBF-B2B3BCAB9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AB56F-28E3-4337-8B64-979E657441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0"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9DD96-DD89-4BE5-9E67-561E65C6B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2"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28C1F-BF04-438C-B99F-CA9DB6AFF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B2B8A-E91B-4716-B212-DCE0680B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4"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35"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0C2729-FFC7-4327-A0AA-8483F44EB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FB644-EB76-4FD3-918C-9536754D4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68D67-EFB0-42B3-B2B9-A5D7B7157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0"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1"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F7FE5-83F0-4AB8-9E7D-53A9F729E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4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5"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E1881-375A-4CFB-8E93-79C50EA7E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4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9"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EAA08-105C-4715-BB97-9F94A039E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1"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2"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5EA9F-61A8-4EEA-99BB-6589CB8FB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6"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7"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052BE-D399-4304-B4B6-EB9B83B23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9"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0"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1"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2"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3"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4"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52293-3B50-4A26-860F-891A75B73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8FABBD-A0E9-4CF8-B609-10E8175D49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7AA4-C349-4AB2-8088-F6628896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2"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1D267-F3C3-447F-B8E0-C14802856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4"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6D2874-BC96-4A77-B734-D5F1563CC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6"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7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561FD9-9505-49C2-9F6F-CA48A70B7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3D10E-33A4-4BD8-BBDD-22AE0A8EE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FEA6E-367A-41A7-8379-581AB8B41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9FF09-8B97-43EF-92DA-2A4D58892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5"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7"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0D817-F31E-48E6-AB46-44FC1A60B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1"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76676-6035-4EDD-AF31-C90B65B25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93"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4"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932EDF-0312-4D9B-88C5-20365ADF3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9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9"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9B574-9F14-488B-853C-34EA779E6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C1B1-787C-4F9E-9FE0-5AEBBAB1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01"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2"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3"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4"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5"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6"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72AD08-5B4B-42D1-9E14-6E128EB0B7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8791E7-D52A-4850-B062-F528268F84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3"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73CC2-5DAF-4AAC-BD0C-C9D2A442E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5"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12533-5406-471B-9D1C-5A80ADCC1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7"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1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2F273-6CD9-460D-BCE5-03129AF50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3EA15-E9F3-44C2-8018-1CAE6F4F3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1F9DB-DEB2-42F3-BA62-B7989F8AD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2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BAA76-170E-486A-819C-799946067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26"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8"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F5A18-E42E-417F-9790-50EECB5E2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0"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2"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5C018-9CF9-4C92-806D-BF431D52B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CAD5-DA0C-4D02-A05C-8319CCA2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4"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5"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BD49B-344B-4524-AE55-9A8F50144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0"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4CCDC-D6F4-4CD2-9255-E61A113A7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42"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3"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4"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5"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6"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7"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E2391-C224-4C3E-BABC-9448200D86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2BC736-B38A-4809-8B13-531E8FF0B3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4"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89CBF-7226-4DED-B693-C04D6BAE1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6"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11F7D-7157-4F41-88C4-72E1F3543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8"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5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E5EFC-C17C-43D6-939D-DA176B769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D53BF-91BA-4FB0-8819-854FD4BEC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BBC58-FDB3-4435-9EB1-1DF4914EB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6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90B73-9288-4D97-8CBC-A3917354E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BDF1-7405-4B90-84B2-70203D36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67"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9"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8A2CD-33A9-4CF5-85BC-EAC28304D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3"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5111D-1996-4031-BFFE-ED7E54DDD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5"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6"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F6364-AE43-4FB6-B1EF-19E57ABF2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9"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1"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50ACFA-32DD-4F0D-89C8-24260D383C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83"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4"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5"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6"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7"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8"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CD3A3-7C2F-4ED7-80CA-E0D520362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83E81E-71C9-4D0A-81ED-0540E66EB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5"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6D3D7-8572-4CBB-8ACA-E1A5C85A9F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7"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99337-D144-45A8-879D-989DC2013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9"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0"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1E97D7-DB82-4F7D-9941-D020FE6E38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1E543-B87B-4078-B7E8-AA47A6D9E2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C25E-41A8-46DB-BC51-BFADB047A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62135-AACA-4F69-9671-33D4BA93AC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0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5"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6"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2FA52-A28D-4692-A654-2A8916D10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08"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9"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0"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929A2-A7E6-4E14-816F-E967686923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4"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4F716-D94E-443A-8FB2-D5AEEB4B7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6"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7"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4F312-3C4E-4920-82DF-D7C56BBC1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1"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2"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098320-4E64-4EC6-8142-29628366E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24"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5"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6"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7"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8"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9"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6B2F92-18F8-462A-A6D2-D07AC26290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CCB8F-6F6C-4821-8E18-1123A3B5C2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36"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A3BA3-CEB1-4BE5-B205-583B4EFC7F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38"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4A364B-52F8-45E7-ADE6-A969B09913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 name="PlaceHolder 3"/>
          <p:cNvSpPr>
            <a:spLocks noGrp="1"/>
          </p:cNvSpPr>
          <p:nvPr>
            <p:ph type="dt" idx="1"/>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6928-491D-4AB2-BDAA-258A5D40C0F8}"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pic>
        <p:nvPicPr>
          <p:cNvPr id="5" name="Picture 6" descr="AIBS0105_NEONlogo"/>
          <p:cNvPicPr/>
          <p:nvPr/>
        </p:nvPicPr>
        <p:blipFill>
          <a:blip r:embed="rId3"/>
          <a:srcRect l="8571" t="29344" r="9426" b="29344"/>
          <a:stretch/>
        </p:blipFill>
        <p:spPr>
          <a:xfrm>
            <a:off x="281160" y="415800"/>
            <a:ext cx="685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372"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373" name="PlaceHolder 3"/>
          <p:cNvSpPr>
            <a:spLocks noGrp="1"/>
          </p:cNvSpPr>
          <p:nvPr>
            <p:ph type="dt" idx="28"/>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74" name="PlaceHolder 4"/>
          <p:cNvSpPr>
            <a:spLocks noGrp="1"/>
          </p:cNvSpPr>
          <p:nvPr>
            <p:ph type="ftr" idx="29"/>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375" name="PlaceHolder 5"/>
          <p:cNvSpPr>
            <a:spLocks noGrp="1"/>
          </p:cNvSpPr>
          <p:nvPr>
            <p:ph type="sldNum" idx="30"/>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1DDE-5CB6-4BB7-8C95-10BFA77BDCA0}"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13"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14" name="PlaceHolder 3"/>
          <p:cNvSpPr>
            <a:spLocks noGrp="1"/>
          </p:cNvSpPr>
          <p:nvPr>
            <p:ph type="dt" idx="31"/>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15" name="PlaceHolder 4"/>
          <p:cNvSpPr>
            <a:spLocks noGrp="1"/>
          </p:cNvSpPr>
          <p:nvPr>
            <p:ph type="ftr" idx="32"/>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16" name="PlaceHolder 5"/>
          <p:cNvSpPr>
            <a:spLocks noGrp="1"/>
          </p:cNvSpPr>
          <p:nvPr>
            <p:ph type="sldNum" idx="33"/>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56E5-1D5B-4E52-A574-2CFD7C5B4687}"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54"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55" name="PlaceHolder 3"/>
          <p:cNvSpPr>
            <a:spLocks noGrp="1"/>
          </p:cNvSpPr>
          <p:nvPr>
            <p:ph type="dt" idx="34"/>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56" name="PlaceHolder 4"/>
          <p:cNvSpPr>
            <a:spLocks noGrp="1"/>
          </p:cNvSpPr>
          <p:nvPr>
            <p:ph type="ftr" idx="35"/>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57" name="PlaceHolder 5"/>
          <p:cNvSpPr>
            <a:spLocks noGrp="1"/>
          </p:cNvSpPr>
          <p:nvPr>
            <p:ph type="sldNum" idx="36"/>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5248-E14D-4611-AAD2-B4C628A337ED}"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3"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4" name="PlaceHolder 3"/>
          <p:cNvSpPr>
            <a:spLocks noGrp="1"/>
          </p:cNvSpPr>
          <p:nvPr>
            <p:ph type="dt" idx="4"/>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5"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6" name="PlaceHolder 5"/>
          <p:cNvSpPr>
            <a:spLocks noGrp="1"/>
          </p:cNvSpPr>
          <p:nvPr>
            <p:ph type="sldNum" idx="6"/>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47C3-9B5F-48E1-8DB0-AFAD4CD73914}"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84"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85" name="PlaceHolder 3"/>
          <p:cNvSpPr>
            <a:spLocks noGrp="1"/>
          </p:cNvSpPr>
          <p:nvPr>
            <p:ph type="dt" idx="7"/>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86" name="PlaceHolder 4"/>
          <p:cNvSpPr>
            <a:spLocks noGrp="1"/>
          </p:cNvSpPr>
          <p:nvPr>
            <p:ph type="ftr" idx="8"/>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87" name="PlaceHolder 5"/>
          <p:cNvSpPr>
            <a:spLocks noGrp="1"/>
          </p:cNvSpPr>
          <p:nvPr>
            <p:ph type="sldNum" idx="9"/>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4694-E76F-4A7E-A599-98CD89CF40C0}"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25"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126" name="PlaceHolder 3"/>
          <p:cNvSpPr>
            <a:spLocks noGrp="1"/>
          </p:cNvSpPr>
          <p:nvPr>
            <p:ph type="dt" idx="10"/>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127" name="PlaceHolder 4"/>
          <p:cNvSpPr>
            <a:spLocks noGrp="1"/>
          </p:cNvSpPr>
          <p:nvPr>
            <p:ph type="ftr" idx="1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128" name="PlaceHolder 5"/>
          <p:cNvSpPr>
            <a:spLocks noGrp="1"/>
          </p:cNvSpPr>
          <p:nvPr>
            <p:ph type="sldNum" idx="12"/>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C8C0-4E91-45CC-8A4D-0C68E4E65D6B}"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itle 1"/>
          <p:cNvSpPr/>
          <p:nvPr/>
        </p:nvSpPr>
        <p:spPr>
          <a:xfrm>
            <a:off x="990720" y="0"/>
            <a:ext cx="67816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ea typeface="Univers 55"/>
              </a:rPr>
              <a:t>Click to edit</a:t>
            </a:r>
            <a:br>
              <a:rPr sz="2400"/>
            </a:br>
            <a:r>
              <a:rPr b="1" lang="en-US" sz="2400" spc="-1" strike="noStrike">
                <a:solidFill>
                  <a:srgbClr val="ffffff"/>
                </a:solidFill>
                <a:latin typeface="Univers 55"/>
                <a:ea typeface="Univers 55"/>
              </a:rPr>
              <a:t>Master title style</a:t>
            </a:r>
            <a:endParaRPr b="0" lang="en-US" sz="2400" spc="-1" strike="noStrike">
              <a:solidFill>
                <a:srgbClr val="000000"/>
              </a:solidFill>
              <a:latin typeface="Arial"/>
            </a:endParaRPr>
          </a:p>
        </p:txBody>
      </p:sp>
      <p:sp>
        <p:nvSpPr>
          <p:cNvPr id="16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67"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168" name="PlaceHolder 3"/>
          <p:cNvSpPr>
            <a:spLocks noGrp="1"/>
          </p:cNvSpPr>
          <p:nvPr>
            <p:ph type="dt" idx="13"/>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169"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170" name="PlaceHolder 5"/>
          <p:cNvSpPr>
            <a:spLocks noGrp="1"/>
          </p:cNvSpPr>
          <p:nvPr>
            <p:ph type="sldNum" idx="15"/>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5087-3E6D-41E0-8741-7428E775F796}"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08"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09" name="PlaceHolder 3"/>
          <p:cNvSpPr>
            <a:spLocks noGrp="1"/>
          </p:cNvSpPr>
          <p:nvPr>
            <p:ph type="dt" idx="16"/>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210" name="PlaceHolder 4"/>
          <p:cNvSpPr>
            <a:spLocks noGrp="1"/>
          </p:cNvSpPr>
          <p:nvPr>
            <p:ph type="ftr" idx="17"/>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211" name="PlaceHolder 5"/>
          <p:cNvSpPr>
            <a:spLocks noGrp="1"/>
          </p:cNvSpPr>
          <p:nvPr>
            <p:ph type="sldNum" idx="18"/>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C227-6646-4C25-94B3-FEE3C987A3CC}"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49"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50" name="PlaceHolder 3"/>
          <p:cNvSpPr>
            <a:spLocks noGrp="1"/>
          </p:cNvSpPr>
          <p:nvPr>
            <p:ph type="dt" idx="19"/>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251" name="PlaceHolder 4"/>
          <p:cNvSpPr>
            <a:spLocks noGrp="1"/>
          </p:cNvSpPr>
          <p:nvPr>
            <p:ph type="ftr" idx="20"/>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252" name="PlaceHolder 5"/>
          <p:cNvSpPr>
            <a:spLocks noGrp="1"/>
          </p:cNvSpPr>
          <p:nvPr>
            <p:ph type="sldNum" idx="21"/>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F4ED-070C-4219-9627-FFB2B0B63451}"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90"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91" name="PlaceHolder 3"/>
          <p:cNvSpPr>
            <a:spLocks noGrp="1"/>
          </p:cNvSpPr>
          <p:nvPr>
            <p:ph type="dt" idx="22"/>
          </p:nvPr>
        </p:nvSpPr>
        <p:spPr>
          <a:xfrm>
            <a:off x="15192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3"/>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ABCC-D8B7-4B74-9269-2FEE9F15F40E}"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331"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332" name="PlaceHolder 3"/>
          <p:cNvSpPr>
            <a:spLocks noGrp="1"/>
          </p:cNvSpPr>
          <p:nvPr>
            <p:ph type="dt" idx="25"/>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33" name="PlaceHolder 4"/>
          <p:cNvSpPr>
            <a:spLocks noGrp="1"/>
          </p:cNvSpPr>
          <p:nvPr>
            <p:ph type="ftr" idx="26"/>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334" name="PlaceHolder 5"/>
          <p:cNvSpPr>
            <a:spLocks noGrp="1"/>
          </p:cNvSpPr>
          <p:nvPr>
            <p:ph type="sldNum" idx="27"/>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E8B4-FFAD-46C1-98E8-73CA7FB22760}"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8" descr="http://www.globalchange.gov/images/stories/reports/SAPs/4.6.png"/>
          <p:cNvPicPr/>
          <p:nvPr/>
        </p:nvPicPr>
        <p:blipFill>
          <a:blip r:embed="rId1"/>
          <a:stretch/>
        </p:blipFill>
        <p:spPr>
          <a:xfrm>
            <a:off x="3828960" y="1241280"/>
            <a:ext cx="2814840" cy="3624480"/>
          </a:xfrm>
          <a:prstGeom prst="rect">
            <a:avLst/>
          </a:prstGeom>
          <a:ln w="0">
            <a:noFill/>
          </a:ln>
        </p:spPr>
      </p:pic>
      <p:sp>
        <p:nvSpPr>
          <p:cNvPr id="495"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tific assessments, e.g. USGCRP</a:t>
            </a:r>
            <a:endParaRPr b="1" lang="en-US" sz="2400" spc="-1" strike="noStrike">
              <a:solidFill>
                <a:srgbClr val="1b2c5f"/>
              </a:solidFill>
              <a:latin typeface="Univers 55"/>
            </a:endParaRPr>
          </a:p>
        </p:txBody>
      </p:sp>
      <p:sp>
        <p:nvSpPr>
          <p:cNvPr id="496"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5BBA-33E3-4E7C-AB27-04E86257B9CB}"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497" name="Picture 4" descr="http://www.globalchange.gov/images/stories/reports/SAPs/4.3.png"/>
          <p:cNvPicPr/>
          <p:nvPr/>
        </p:nvPicPr>
        <p:blipFill>
          <a:blip r:embed="rId2"/>
          <a:stretch/>
        </p:blipFill>
        <p:spPr>
          <a:xfrm>
            <a:off x="250920" y="1225440"/>
            <a:ext cx="2806560" cy="3633840"/>
          </a:xfrm>
          <a:prstGeom prst="rect">
            <a:avLst/>
          </a:prstGeom>
          <a:ln w="0">
            <a:noFill/>
          </a:ln>
        </p:spPr>
      </p:pic>
      <p:pic>
        <p:nvPicPr>
          <p:cNvPr id="498" name="Picture 6" descr="http://www.globalchange.gov/images/stories/reports/SAPs/4.1.png"/>
          <p:cNvPicPr/>
          <p:nvPr/>
        </p:nvPicPr>
        <p:blipFill>
          <a:blip r:embed="rId3"/>
          <a:stretch/>
        </p:blipFill>
        <p:spPr>
          <a:xfrm>
            <a:off x="2044800" y="2884320"/>
            <a:ext cx="2797200" cy="3621240"/>
          </a:xfrm>
          <a:prstGeom prst="rect">
            <a:avLst/>
          </a:prstGeom>
          <a:ln w="0">
            <a:noFill/>
          </a:ln>
        </p:spPr>
      </p:pic>
      <p:pic>
        <p:nvPicPr>
          <p:cNvPr id="499" name="Picture 10" descr="http://www.globalchange.gov/images/stories/reports/SAPs/5.1.png"/>
          <p:cNvPicPr/>
          <p:nvPr/>
        </p:nvPicPr>
        <p:blipFill>
          <a:blip r:embed="rId4"/>
          <a:stretch/>
        </p:blipFill>
        <p:spPr>
          <a:xfrm>
            <a:off x="5630760" y="2873520"/>
            <a:ext cx="2795760" cy="36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On a smaller and ‘regular’ scale…</a:t>
            </a:r>
            <a:endParaRPr b="1" lang="en-US" sz="2400" spc="-1" strike="noStrike">
              <a:solidFill>
                <a:srgbClr val="1b2c5f"/>
              </a:solidFill>
              <a:latin typeface="Univers 55"/>
            </a:endParaRPr>
          </a:p>
        </p:txBody>
      </p:sp>
      <p:sp>
        <p:nvSpPr>
          <p:cNvPr id="501" name=""/>
          <p:cNvSpPr txBox="1"/>
          <p:nvPr/>
        </p:nvSpPr>
        <p:spPr>
          <a:xfrm>
            <a:off x="152280" y="1371240"/>
            <a:ext cx="8839440" cy="4800600"/>
          </a:xfrm>
          <a:prstGeom prst="rect">
            <a:avLst/>
          </a:prstGeom>
          <a:noFill/>
          <a:ln w="0">
            <a:noFill/>
          </a:ln>
        </p:spPr>
        <p:txBody>
          <a:bodyPr anchor="t">
            <a:normAutofit/>
          </a:bodyPr>
          <a:p>
            <a:pPr marL="343080" indent="-34308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Assessments done at the agency level for specific issues,</a:t>
            </a:r>
            <a:endParaRPr b="0" lang="en-US" sz="3200" spc="-1" strike="noStrike">
              <a:solidFill>
                <a:srgbClr val="1b2c5f"/>
              </a:solidFill>
              <a:latin typeface="Univers 55"/>
            </a:endParaRPr>
          </a:p>
          <a:p>
            <a:pPr lvl="1" marL="743040" indent="-285840">
              <a:spcBef>
                <a:spcPts val="700"/>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b2c5f"/>
                </a:solidFill>
                <a:latin typeface="Univers 55"/>
              </a:rPr>
              <a:t>E.g. EPA on water quality of the nation’s lakes</a:t>
            </a:r>
            <a:endParaRPr b="0" lang="en-US" sz="2800" spc="-1" strike="noStrike">
              <a:solidFill>
                <a:srgbClr val="1b2c5f"/>
              </a:solidFill>
              <a:latin typeface="Univers 55"/>
            </a:endParaRPr>
          </a:p>
          <a:p>
            <a:pPr lvl="1" marL="743040" indent="-285840">
              <a:spcBef>
                <a:spcPts val="700"/>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b2c5f"/>
                </a:solidFill>
                <a:latin typeface="Univers 55"/>
              </a:rPr>
              <a:t>USDA ARS on water use and agriculture</a:t>
            </a:r>
            <a:endParaRPr b="0" lang="en-US" sz="2800" spc="-1" strike="noStrike">
              <a:solidFill>
                <a:srgbClr val="1b2c5f"/>
              </a:solidFill>
              <a:latin typeface="Univers 55"/>
            </a:endParaRPr>
          </a:p>
        </p:txBody>
      </p:sp>
      <p:sp>
        <p:nvSpPr>
          <p:cNvPr id="502" name="Date Placeholder 3"/>
          <p:cNvSpPr/>
          <p:nvPr/>
        </p:nvSpPr>
        <p:spPr>
          <a:xfrm>
            <a:off x="1522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Arial"/>
            </a:endParaRPr>
          </a:p>
        </p:txBody>
      </p:sp>
      <p:sp>
        <p:nvSpPr>
          <p:cNvPr id="503" name="Footer Placeholder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Arial"/>
            </a:endParaRPr>
          </a:p>
        </p:txBody>
      </p:sp>
      <p:sp>
        <p:nvSpPr>
          <p:cNvPr id="504"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6D9E-3765-43B0-92E4-9919D4C3BCB1}"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ce for science’s sake?</a:t>
            </a:r>
            <a:endParaRPr b="1" lang="en-US" sz="2400" spc="-1" strike="noStrike">
              <a:solidFill>
                <a:srgbClr val="1b2c5f"/>
              </a:solidFill>
              <a:latin typeface="Univers 55"/>
            </a:endParaRPr>
          </a:p>
        </p:txBody>
      </p:sp>
      <p:sp>
        <p:nvSpPr>
          <p:cNvPr id="506"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B441-EF2D-472E-898F-5DD872B23E0D}"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
        <p:nvSpPr>
          <p:cNvPr id="507" name="Rectangle 6"/>
          <p:cNvSpPr/>
          <p:nvPr/>
        </p:nvSpPr>
        <p:spPr>
          <a:xfrm>
            <a:off x="152280" y="1665360"/>
            <a:ext cx="8839440" cy="2654280"/>
          </a:xfrm>
          <a:prstGeom prst="rect">
            <a:avLst/>
          </a:prstGeom>
          <a:noFill/>
          <a:ln w="19080">
            <a:solidFill>
              <a:srgbClr val="004a4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cientists doing environmental monitoring are "not being very effective if we are just generating data for more scientists to play with. We’re not being very effective if we’re focused on databases and peer-reviewed publications….How we see our knowledge used in decisions becomes the measure. The delivery of tailored information becomes the point."</a:t>
            </a:r>
            <a:endParaRPr b="0" lang="en-US" sz="2400" spc="-1" strike="noStrike">
              <a:solidFill>
                <a:srgbClr val="000000"/>
              </a:solidFill>
              <a:latin typeface="Arial"/>
            </a:endParaRPr>
          </a:p>
        </p:txBody>
      </p:sp>
      <p:sp>
        <p:nvSpPr>
          <p:cNvPr id="508" name="TextBox 7"/>
          <p:cNvSpPr/>
          <p:nvPr/>
        </p:nvSpPr>
        <p:spPr>
          <a:xfrm>
            <a:off x="3581280" y="5018040"/>
            <a:ext cx="5562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gue Vaughn, Director of Environment Canada's Ecological Monitoring and Assessment Network Coordinating Office</a:t>
            </a:r>
            <a:endParaRPr b="0" lang="en-US" sz="1800" spc="-1" strike="noStrike">
              <a:solidFill>
                <a:srgbClr val="000000"/>
              </a:solidFill>
              <a:latin typeface="Arial"/>
            </a:endParaRPr>
          </a:p>
        </p:txBody>
      </p:sp>
      <p:sp>
        <p:nvSpPr>
          <p:cNvPr id="509" name="TextBox 7"/>
          <p:cNvSpPr/>
          <p:nvPr/>
        </p:nvSpPr>
        <p:spPr>
          <a:xfrm>
            <a:off x="874800" y="1019160"/>
            <a:ext cx="7512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Alli Srinivas and Gene Russo (U Maryland) Masters of Pub. Policy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The problem: Food, fiber, energy, water</a:t>
            </a:r>
            <a:endParaRPr b="1" lang="en-US" sz="2400" spc="-1" strike="noStrike">
              <a:solidFill>
                <a:srgbClr val="1b2c5f"/>
              </a:solidFill>
              <a:latin typeface="Univers 55"/>
            </a:endParaRPr>
          </a:p>
        </p:txBody>
      </p:sp>
      <p:sp>
        <p:nvSpPr>
          <p:cNvPr id="511"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51BA-A5B9-476B-B447-62A7EC673B1E}"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512" name="Picture 6" descr="LandscapeInteractions.v1.0.tif"/>
          <p:cNvPicPr/>
          <p:nvPr/>
        </p:nvPicPr>
        <p:blipFill>
          <a:blip r:embed="rId1"/>
          <a:srcRect l="0" t="0" r="0" b="50003"/>
          <a:stretch/>
        </p:blipFill>
        <p:spPr>
          <a:xfrm>
            <a:off x="1492200" y="992160"/>
            <a:ext cx="6496200" cy="586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ce and Policy interface</a:t>
            </a:r>
            <a:endParaRPr b="1" lang="en-US" sz="2400" spc="-1" strike="noStrike">
              <a:solidFill>
                <a:srgbClr val="1b2c5f"/>
              </a:solidFill>
              <a:latin typeface="Univers 55"/>
            </a:endParaRPr>
          </a:p>
        </p:txBody>
      </p:sp>
      <p:sp>
        <p:nvSpPr>
          <p:cNvPr id="514"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27F3-9EDD-47F8-958E-2AF9B1E6E303}"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515" name="Picture 11" descr=""/>
          <p:cNvPicPr/>
          <p:nvPr/>
        </p:nvPicPr>
        <p:blipFill>
          <a:blip r:embed="rId1"/>
          <a:stretch/>
        </p:blipFill>
        <p:spPr>
          <a:xfrm>
            <a:off x="372960" y="1314360"/>
            <a:ext cx="8347320" cy="4546800"/>
          </a:xfrm>
          <a:prstGeom prst="rect">
            <a:avLst/>
          </a:prstGeom>
          <a:ln w="0">
            <a:noFill/>
          </a:ln>
        </p:spPr>
      </p:pic>
      <p:sp>
        <p:nvSpPr>
          <p:cNvPr id="516" name="TextBox 15"/>
          <p:cNvSpPr/>
          <p:nvPr/>
        </p:nvSpPr>
        <p:spPr>
          <a:xfrm>
            <a:off x="334800" y="5979960"/>
            <a:ext cx="8077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from Pouyat, et al. 2010. The role of federal agencies in the application of scientific knowledge. </a:t>
            </a:r>
            <a:r>
              <a:rPr b="0" i="1" lang="en-US" sz="1600" spc="-1" strike="noStrike">
                <a:solidFill>
                  <a:srgbClr val="000000"/>
                </a:solidFill>
                <a:latin typeface="Arial"/>
              </a:rPr>
              <a:t>Frontiers in Ecology and the Environment </a:t>
            </a:r>
            <a:r>
              <a:rPr b="0" lang="en-US" sz="1600" spc="-1" strike="noStrike">
                <a:solidFill>
                  <a:srgbClr val="000000"/>
                </a:solidFill>
                <a:latin typeface="Arial"/>
              </a:rPr>
              <a:t>8(6): 322-3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a:t>
            </a:r>
            <a:r>
              <a:rPr b="1" lang="en-US" sz="2400" spc="-1" strike="noStrike">
                <a:solidFill>
                  <a:srgbClr val="ffffff"/>
                </a:solidFill>
                <a:latin typeface="Univers 55"/>
              </a:rPr>
              <a:t>Translating science” and decision making”</a:t>
            </a:r>
            <a:endParaRPr b="1" lang="en-US" sz="2400" spc="-1" strike="noStrike">
              <a:solidFill>
                <a:srgbClr val="1b2c5f"/>
              </a:solidFill>
              <a:latin typeface="Univers 55"/>
            </a:endParaRPr>
          </a:p>
        </p:txBody>
      </p:sp>
      <p:sp>
        <p:nvSpPr>
          <p:cNvPr id="518" name=""/>
          <p:cNvSpPr txBox="1"/>
          <p:nvPr/>
        </p:nvSpPr>
        <p:spPr>
          <a:xfrm>
            <a:off x="152280" y="1371240"/>
            <a:ext cx="8839440" cy="4800600"/>
          </a:xfrm>
          <a:prstGeom prst="rect">
            <a:avLst/>
          </a:prstGeom>
          <a:noFill/>
          <a:ln w="0">
            <a:noFill/>
          </a:ln>
        </p:spPr>
        <p:txBody>
          <a:bodyPr anchor="t">
            <a:normAutofit/>
          </a:bodyPr>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a:t>
            </a:r>
            <a:r>
              <a:rPr b="0" lang="en-US" sz="2400" spc="-1" strike="noStrike">
                <a:solidFill>
                  <a:srgbClr val="1b2c5f"/>
                </a:solidFill>
                <a:latin typeface="Univers 55"/>
              </a:rPr>
              <a:t>Farm bill” (USDA)</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imate program costs (e.g. incentive programs for farmers to retire highly erodible land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ablish criteria for participation</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ablish verification (“spot-check”) and enforcement programs</a:t>
            </a:r>
            <a:endParaRPr b="0" lang="en-US" sz="2000" spc="-1" strike="noStrike">
              <a:solidFill>
                <a:srgbClr val="1b2c5f"/>
              </a:solidFill>
              <a:latin typeface="Univers 55"/>
            </a:endParaRPr>
          </a:p>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How?</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Models are used to estimate the above</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Require data from various credible data source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xpose stakeholders, resource managers, policy analysts, budget analysts (“consumers of assessments”) to the inference chain that lead to the estimates produced by the model</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p:txBody>
      </p:sp>
      <p:sp>
        <p:nvSpPr>
          <p:cNvPr id="519"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729C-B00F-4E30-90E0-262E7424652A}"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a:t>
            </a:r>
            <a:r>
              <a:rPr b="1" lang="en-US" sz="2400" spc="-1" strike="noStrike">
                <a:solidFill>
                  <a:srgbClr val="ffffff"/>
                </a:solidFill>
                <a:latin typeface="Univers 55"/>
              </a:rPr>
              <a:t>Translating science” and decision making”</a:t>
            </a:r>
            <a:endParaRPr b="1" lang="en-US" sz="2400" spc="-1" strike="noStrike">
              <a:solidFill>
                <a:srgbClr val="1b2c5f"/>
              </a:solidFill>
              <a:latin typeface="Univers 55"/>
            </a:endParaRPr>
          </a:p>
        </p:txBody>
      </p:sp>
      <p:sp>
        <p:nvSpPr>
          <p:cNvPr id="521" name=""/>
          <p:cNvSpPr txBox="1"/>
          <p:nvPr/>
        </p:nvSpPr>
        <p:spPr>
          <a:xfrm>
            <a:off x="152280" y="1371240"/>
            <a:ext cx="8839440" cy="4800600"/>
          </a:xfrm>
          <a:prstGeom prst="rect">
            <a:avLst/>
          </a:prstGeom>
          <a:noFill/>
          <a:ln w="0">
            <a:noFill/>
          </a:ln>
        </p:spPr>
        <p:txBody>
          <a:bodyPr anchor="t">
            <a:normAutofit/>
          </a:bodyPr>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Needs of consumers of these assessments</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Access to the workflows to assess assumption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Have a “sandbox” copy of the original workflow to run “what-if” analyse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Just as scientific publications support supplementary digital resources, provide a similar “read-only” access to such assessment analyses to consumers of such assessment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p:txBody>
      </p:sp>
      <p:sp>
        <p:nvSpPr>
          <p:cNvPr id="522"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18D5-4C8F-4F30-8AFF-08CC44E1EEC7}"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44:22Z</dcterms:created>
  <dc:creator>tbeasley</dc:creator>
  <dc:description/>
  <dc:language>en-US</dc:language>
  <cp:lastModifiedBy>bwee</cp:lastModifiedBy>
  <dcterms:modified xsi:type="dcterms:W3CDTF">2011-07-13T16:47:14Z</dcterms:modified>
  <cp:revision>499</cp:revision>
  <dc:subject/>
  <dc:title>Slide 1</dc:title>
</cp:coreProperties>
</file>